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CE63486-7D9B-45DB-A0E1-61F92EBBBDCA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43CD4DD-A072-4DD1-990D-0A7CE9C0C5F7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DF87AE6-2E65-44FA-866F-C552A126A84B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BDCEF02-B790-4198-9F12-F6F0CDDFAD4D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E3D68EC-515A-40F8-B9F7-24CA88115138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F53E4D9-5017-41D5-9E19-662D49FCACCF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E9F8F3C-21EA-45A7-857B-4A4C5F4FA965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42336B3-1E78-4921-AF96-A319ECA075BE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808411C-CCDC-46E0-BA0F-E9FAEADB0622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ABFC62-85E0-45AE-9ADD-4A91B8F900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799A9A-2486-460A-A39C-2BB093515284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89D685-C98A-4325-93C6-E4A48AA1304E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A1D168-EDED-490E-AAC1-98C73349BC1C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5FBE8D-5001-4177-8847-FEB503B5C1BA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4D9E1B-5980-4338-A997-A0485209C4B8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649C96-3150-4985-8731-1FC036D0F75D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4ACF5B-776A-4D34-A2A3-9E6334E65216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985CB9-7644-4CDD-B3F7-85B551724E32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161757-BE7A-4D0E-9D69-006ABBC1B6BA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A1BDA7-F101-4345-B63D-4834DFCD88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1EF83B-E381-475D-B7FE-D2B7D91E00FC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115D8CC-1457-4A95-A12D-22805F538C51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EDBAF79-AD1E-42AC-B0D5-A794FDD76BDC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89D0A0C-1A7F-4924-B93E-3AC04737E5A2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E8C5385-56BB-4FAC-A6D9-1B593D843558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456EB4A-C2E9-4311-A410-A89938495B24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D76D047-2AD9-40DC-9942-9DEB58C562F0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B7C9D0A-B9BF-4630-B0AF-418062B2227D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405AEDE-D83D-4788-8913-65F74D40466D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C908580-63DD-4636-9696-CECE8F70AC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7AF1CF-43FF-48CC-845D-73098FE0758C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865D46F-2B82-4BBF-8C45-47AE4707A51B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8168625-0489-4C91-B7DE-FE5FDBBD519B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6A451FD-030A-4C70-B57E-A4317414CE0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2C2D12-4FEA-41C1-8D52-CC4A56A86DF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2441D2-D210-45A1-BA8F-13DBEE88A1B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6FDC33-CE8F-4374-9FC7-448BBBC6807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3A7B03-2585-4B44-B869-55A67F5E70E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A54B69-2C9E-4D77-8343-3A6DD36987F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50CA57-6997-45DF-A63F-E84EC9A60A0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E60F6D-AA0F-453E-B67B-5D9706E6129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C7B445-52EC-4AD3-B32F-88A49314A27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F50361-5DAC-48BE-BCD5-76F56B09D51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1E7605-335B-4CAE-8BB7-962D0FAB17D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61FF0-899B-4753-BA90-1461D364F3D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476B68-82EF-48B4-8D77-EE5E2426E49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FB414F-0205-4B63-93B0-0826C807E95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43DAD1-1624-411B-AADD-217CE560776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91F67B-BD68-443A-8452-312FF588B54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547C35-FE42-4C57-B5B2-4D209C35BE0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200391-1D9F-4D05-BEBD-72D88666500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931745-8788-463F-92B7-9D6C2AEE897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FE0AB7-FD9A-4093-9D38-41A0B878041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4D67DC-28DF-4D69-B0F1-E76008BB2BC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370ACF-B16D-478B-AE58-2D3F466D687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E306E2-8374-4336-8040-BA8E054A581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6E8D43-2C2A-43C6-B9A8-13B1C621A5E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04874-EF80-4F96-8D93-31B6BAF0744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A9304-1B14-4EEB-BE1B-4F1FD9B9C80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F80F0-7913-4F95-AD9F-EF769375B3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39DAB-065E-4755-B2D2-4E321C79DE7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72EB3-3EC8-4D1C-BE8B-029FC69670D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1B37A-3E96-4B21-9BDD-7580BC58A20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36013-524B-42E9-8614-CEB609F9DA6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24DF5-B224-4067-A02B-A0E8AEF3461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5E3DA-0098-441D-BB1A-A80BB791F6C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F8635-39D9-4650-8A66-F8E5F0CD339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6FEB4-3AC8-4471-ADBE-9F5EE80F08B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B54D0-ADA8-4B3A-9D75-50F374B94BFB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D865A9-0798-4E1C-8AB9-8227235B44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E965F1-6202-4433-88A7-631C9B0EF082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5F8E74-1D27-4FCB-A10C-23ADDF970A1A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787F25-1ABD-43E7-B969-E572BEC49F81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0F68ED-A3DB-430A-9E51-A4C438452A76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C9CEA3-ACBE-485B-BA8C-EC31B93F0ED5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E2574A-E2BD-4C28-A328-244038841AEB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6FF4E2-00A7-4163-BC2B-FB28298266D9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ADC4A9-9455-42F3-AAE6-AF15A1E2E54A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41CF1D-3E55-4A69-BDFA-AD302379BBF1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9638E7-500F-4CB4-B132-53510FC86B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F3E29A-1192-4CA5-9732-B45A5C3B3596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ECB7663-D7A4-4285-AC00-0FE33C1648D3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5B2994B-FFF6-448E-A098-F7B1E7E85F7D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2DB7D61-F0B1-4B10-B46F-885901B73C26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323FD17-CF5E-41FE-B46B-7E2DCFE47EBF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A78885F-B926-44EF-902E-AE3A1EBE6EA8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49DC438-8269-43A1-A54C-0AD030688C45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3DA1C0E-EC53-48E1-BCAB-4AD55EA59BA1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1A2BF59-0D33-46DB-978A-4B343A162999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FA5017B-142A-4E2B-8D7E-36A5EC8AAF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E7F4DF7-2C89-4AFF-A6AC-B39AEE06B298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36353FC-3F93-495F-8759-805AC282584D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275CD35-8DE6-4729-8149-BA5E122103B5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A154DA-3D57-45D7-BE59-28169103A27A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D62EA4-9756-40E0-9631-CE0C7454B7C4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6845EF-7381-436A-BF28-D7C96AF71554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EDA6CA-4CB7-4725-B777-129A32D55704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C530AC-6F4E-44DA-8208-9C108C9CF8DA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32DBE2-9E9A-4C56-91EE-3A5A55DCFF0D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E01046-1D5F-4E1E-8DD5-16EB92AE0B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67A9A4-7715-4C5B-B19C-C092BB8222A3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53B321-89BA-4E76-81A1-29EA3AAA3920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32CB37-244F-4C90-BFCB-4123CF03BF0E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B5492B-262B-4FBA-8D2A-A3BBDB30E4E0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E1B138-9080-44B1-B416-8359F38396DC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E7C594-95AA-4A10-88A1-9E38F3514371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445F43-A1B8-4189-82C2-68B74BE5CB83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475A3A-E9C2-4C38-8EE7-84FE3FF78D56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00D480-3504-47DD-98E5-DA44C10E9F75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E015EC-06A9-4B8A-8208-4E6344F001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9EE9A1-24B5-4D1C-8CB8-1AA1891775BE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CE2268-F26B-44D3-9FBD-8DF304164549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4CA3F0-40E5-4014-B722-89B09659FD67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C57DD2-0CA1-47EE-8DC6-2286DC8063B6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35EDA4-C352-49CA-8E0F-C78BA1C0A8A2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595B99-D556-486F-B48B-0A5F60AA6FF4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FB042C-1A0F-43A7-941B-59381B681AA8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7AF82E1-9960-454F-8A62-C349EFCBF2DF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7BAC76D-55CB-4D18-A95D-6FE2399AC8DA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60EEA32-21F9-4AB2-9EFC-CF1BD9E91F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71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372" name="PlaceHolder 1"/>
          <p:cNvSpPr>
            <a:spLocks noGrp="1"/>
          </p:cNvSpPr>
          <p:nvPr>
            <p:ph type="ftr" idx="17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ldNum" idx="18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C9DE6-7221-4B50-B53C-B71F1F385AC9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1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12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413" name="PlaceHolder 1"/>
          <p:cNvSpPr>
            <a:spLocks noGrp="1"/>
          </p:cNvSpPr>
          <p:nvPr>
            <p:ph type="ftr" idx="19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ldNum" idx="20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965B7-0E93-421C-95B0-F8CB23EED75E}" type="slidenum">
              <a:rPr b="0" lang="en-US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1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ftr" idx="1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Num" idx="2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744A5-8D84-4630-ADDB-031609DDC6C6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2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ftr" idx="3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ldNum" idx="4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BB3A8-D9DF-40BB-B8B2-E188CB02C9B4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3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ftr" idx="5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ldNum" idx="6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FBDCE-C1A7-47BF-8AA2-50F60D8852B1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4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ftr" idx="7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ldNum" idx="8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32146-10FE-462F-91B5-FEBA0EB8CD9A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5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ftr" idx="9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ldNum" idx="10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E8FE4-32F9-4F03-AA3D-E118F428E7D1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6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ftr" idx="11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ldNum" idx="12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F6DF2-CF64-4B5B-9C06-77C4ABC192B9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89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290" name="PlaceHolder 1"/>
          <p:cNvSpPr>
            <a:spLocks noGrp="1"/>
          </p:cNvSpPr>
          <p:nvPr>
            <p:ph type="ftr" idx="13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ldNum" idx="14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1C281-C748-4E8A-81C4-953B93D60B8B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30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 type="ftr" idx="15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ldNum" idx="16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337E8-35B7-48B8-96A9-40ABF8DF191A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treccani.it/enciclopedia/il-design-r" TargetMode="External"/><Relationship Id="rId2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2"/>
          <p:cNvSpPr/>
          <p:nvPr/>
        </p:nvSpPr>
        <p:spPr>
          <a:xfrm>
            <a:off x="539640" y="1341360"/>
            <a:ext cx="82155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Corso: </a:t>
            </a:r>
            <a:r>
              <a:rPr b="1" lang="it-IT" sz="2000" spc="-1" strike="noStrike">
                <a:solidFill>
                  <a:srgbClr val="ff3300"/>
                </a:solidFill>
                <a:latin typeface="Verdana"/>
              </a:rPr>
              <a:t>Design oggi: giovani designer tra globalizzazione e nuove tecnologie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Docente: Prof. Giovanni Pasca Raymondi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Semestre: 1°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Lingua di erogazione: italiano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N° max studenti ammessi: 100 Polimi + 20 Erasmus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Modalità d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esame per non frequentanti: SI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2" name="Text Box 3"/>
          <p:cNvSpPr/>
          <p:nvPr/>
        </p:nvSpPr>
        <p:spPr>
          <a:xfrm>
            <a:off x="991800" y="158760"/>
            <a:ext cx="499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Arial"/>
              </a:rPr>
              <a:t>Corsi a scelta di Area Umanistica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3" name="Text Box 3"/>
          <p:cNvSpPr/>
          <p:nvPr/>
        </p:nvSpPr>
        <p:spPr>
          <a:xfrm>
            <a:off x="4788000" y="6583320"/>
            <a:ext cx="435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Presentazione Corsi a scelta I Livello – 5 settembre '14</a:t>
            </a: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4" name="Rectangle 2"/>
          <p:cNvSpPr/>
          <p:nvPr/>
        </p:nvSpPr>
        <p:spPr>
          <a:xfrm>
            <a:off x="539640" y="3789360"/>
            <a:ext cx="8280360" cy="43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. ll</a:t>
            </a:r>
            <a:r>
              <a:rPr b="1" lang="it-IT" sz="1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corso prende in esame i cambiamenti in corso oggi,  situazione in cui la globalizzazione e le nuove tecnologie investono il design, modificano e rendono più ampia e articolata l’attività del designer. Da un lato l’impatto delle nuove tecnologie, dalle macchine CNC (computer numerical control) alle stampanti 3D, dai nuovi materiali alle nuove fonti energetiche ecc.; dall’altro il moltiplicarsi dei contatti internazionali, le possibilità di relazioni con situazioni culturalmente differenti, l’aumento generalizzato del numero dei designer in tutto il mondo: tutto questo comporta un panorama di cui è necessario aver conoscenza per poterlo affrontare con competenza tecnica e critica.</a:t>
            </a: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Il corso analizza in particolare i processi sviluppatisi con la terza fase della rivoluzione industriale, prendendo in esame gli ultimi tre decenni, seguendo gli sviluppi del design in Italia e in altri paesi.  </a:t>
            </a: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Il corso si articolerà con lezioni frontali con proiezioni, e con dibattiti o tavole rotonde con designer o studiosi invitati per le specifiche competenze.</a:t>
            </a: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L’esame si svolgerà sulla base di una ricerca su argomento concordato col docente, da comunicare oralmente con accompagnamento di slides.</a:t>
            </a: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  <a:ea typeface="Arial"/>
              </a:rPr>
              <a:t>            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Text Box 3"/>
          <p:cNvSpPr/>
          <p:nvPr/>
        </p:nvSpPr>
        <p:spPr>
          <a:xfrm>
            <a:off x="991800" y="158760"/>
            <a:ext cx="499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Arial"/>
              </a:rPr>
              <a:t>Corsi a scelta di Area Umanistica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6" name="Text Box 3"/>
          <p:cNvSpPr/>
          <p:nvPr/>
        </p:nvSpPr>
        <p:spPr>
          <a:xfrm>
            <a:off x="4788000" y="6583320"/>
            <a:ext cx="435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Presentazione Corsi a scelta I Livello – 5 settembre '14</a:t>
            </a: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7" name="Rectangle 2"/>
          <p:cNvSpPr/>
          <p:nvPr/>
        </p:nvSpPr>
        <p:spPr>
          <a:xfrm>
            <a:off x="468360" y="1268280"/>
            <a:ext cx="8351640" cy="40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000000"/>
                </a:solidFill>
                <a:latin typeface="Arial"/>
              </a:rPr>
              <a:t>(segue) </a:t>
            </a:r>
            <a:r>
              <a:rPr b="1" lang="it-IT" sz="1400" spc="-1" strike="noStrike">
                <a:solidFill>
                  <a:srgbClr val="000000"/>
                </a:solidFill>
                <a:latin typeface="Verdana"/>
              </a:rPr>
              <a:t>Bibliografia: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Verdana"/>
              </a:rPr>
              <a:t>Zygmunt Bauman, </a:t>
            </a:r>
            <a:r>
              <a:rPr b="1" i="1" lang="it-IT" sz="1400" spc="-1" strike="noStrike">
                <a:solidFill>
                  <a:srgbClr val="000000"/>
                </a:solidFill>
                <a:latin typeface="Verdana"/>
              </a:rPr>
              <a:t>Modernità liquida</a:t>
            </a:r>
            <a:r>
              <a:rPr b="1" lang="it-IT" sz="1400" spc="-1" strike="noStrike">
                <a:solidFill>
                  <a:srgbClr val="000000"/>
                </a:solidFill>
                <a:latin typeface="Verdana"/>
              </a:rPr>
              <a:t>, Roma , Laterza 2003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Verdana"/>
              </a:rPr>
              <a:t>Vanni Pasca, “Introduzione” in </a:t>
            </a:r>
            <a:r>
              <a:rPr b="1" i="1" lang="it-IT" sz="1400" spc="-1" strike="noStrike">
                <a:solidFill>
                  <a:srgbClr val="000000"/>
                </a:solidFill>
                <a:latin typeface="Verdana"/>
              </a:rPr>
              <a:t>Scenari del giovane design</a:t>
            </a:r>
            <a:r>
              <a:rPr b="1" lang="it-IT" sz="14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1" i="1" lang="it-IT" sz="1400" spc="-1" strike="noStrike">
                <a:solidFill>
                  <a:srgbClr val="000000"/>
                </a:solidFill>
                <a:latin typeface="Verdana"/>
              </a:rPr>
              <a:t>Idee e progetti dall’Europa e dal mondo</a:t>
            </a:r>
            <a:r>
              <a:rPr b="1" lang="it-IT" sz="1400" spc="-1" strike="noStrike">
                <a:solidFill>
                  <a:srgbClr val="000000"/>
                </a:solidFill>
                <a:latin typeface="Verdana"/>
              </a:rPr>
              <a:t>, Lupetti, Milano 2001 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Verdana"/>
              </a:rPr>
              <a:t>Vanni Pasca, </a:t>
            </a:r>
            <a:r>
              <a:rPr b="1" i="1" lang="it-IT" sz="1400" spc="-1" strike="noStrike">
                <a:solidFill>
                  <a:srgbClr val="000000"/>
                </a:solidFill>
                <a:latin typeface="Verdana"/>
              </a:rPr>
              <a:t>Design nel futuro</a:t>
            </a:r>
            <a:r>
              <a:rPr b="1" lang="it-IT" sz="1400" spc="-1" strike="noStrike">
                <a:solidFill>
                  <a:srgbClr val="000000"/>
                </a:solidFill>
                <a:latin typeface="Verdana"/>
              </a:rPr>
              <a:t>, XXI secolo, Treccani, 2010- </a:t>
            </a:r>
            <a:r>
              <a:rPr b="1" lang="it-IT" sz="1400" spc="-1" strike="noStrike" u="sng">
                <a:solidFill>
                  <a:srgbClr val="330099"/>
                </a:solidFill>
                <a:uFillTx/>
                <a:latin typeface="Verdana"/>
                <a:hlinkClick r:id="rId1"/>
              </a:rPr>
              <a:t>www.treccani.it/enciclopedia/il-design-r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000000"/>
                </a:solidFill>
                <a:latin typeface="Verdana"/>
              </a:rPr>
              <a:t>Vanni Pasca, Negli ultimi tre decenni </a:t>
            </a:r>
            <a:r>
              <a:rPr b="1" lang="it-IT" sz="1400" spc="-1" strike="noStrike">
                <a:solidFill>
                  <a:srgbClr val="000000"/>
                </a:solidFill>
                <a:latin typeface="Verdana"/>
              </a:rPr>
              <a:t>in “Catalogo della VI  Triennale del Design Museum”, 2013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 u="sng">
                <a:solidFill>
                  <a:srgbClr val="000000"/>
                </a:solidFill>
                <a:uFillTx/>
                <a:latin typeface="Verdana"/>
              </a:rPr>
              <a:t>I testi di Vanni Pasca saranno forniti agli studenti in pdf.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08T13:48:10Z</dcterms:created>
  <dc:creator>Silvia</dc:creator>
  <dc:description/>
  <dc:language>en-US</dc:language>
  <cp:lastModifiedBy>vanni</cp:lastModifiedBy>
  <cp:lastPrinted>2003-05-08T11:08:41Z</cp:lastPrinted>
  <dcterms:modified xsi:type="dcterms:W3CDTF">2014-07-29T18:01:22Z</dcterms:modified>
  <cp:revision>213</cp:revision>
  <dc:subject/>
  <dc:title>Inserire immagine della locandina, possibilmente in trasparenza e aggiungere Facoltà di Architettura Illustrazione prova di ammissione prof. Silvia Piardi (idem Cedolin)</dc:title>
</cp:coreProperties>
</file>